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51280" y="0"/>
            <a:ext cx="2946240" cy="49536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7" name="PlaceHolder 4"/>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8" name="PlaceHolder 5"/>
          <p:cNvSpPr>
            <a:spLocks noGrp="1"/>
          </p:cNvSpPr>
          <p:nvPr>
            <p:ph type="ftr" idx="4"/>
          </p:nvPr>
        </p:nvSpPr>
        <p:spPr>
          <a:xfrm>
            <a:off x="0" y="9431280"/>
            <a:ext cx="2946240" cy="49536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51280" y="9431280"/>
            <a:ext cx="2946240" cy="49536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21D0E3-FB88-4883-B3CB-535327FEE59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614520"/>
            <a:ext cx="4964040" cy="3722400"/>
          </a:xfrm>
          <a:prstGeom prst="rect">
            <a:avLst/>
          </a:prstGeom>
          <a:ln w="0">
            <a:noFill/>
          </a:ln>
        </p:spPr>
      </p:sp>
      <p:sp>
        <p:nvSpPr>
          <p:cNvPr id="518" name="PlaceHolder 2"/>
          <p:cNvSpPr>
            <a:spLocks noGrp="1"/>
          </p:cNvSpPr>
          <p:nvPr>
            <p:ph type="body"/>
          </p:nvPr>
        </p:nvSpPr>
        <p:spPr>
          <a:xfrm>
            <a:off x="661680" y="4532400"/>
            <a:ext cx="5473800" cy="4744800"/>
          </a:xfrm>
          <a:prstGeom prst="rect">
            <a:avLst/>
          </a:prstGeom>
          <a:noFill/>
          <a:ln w="0">
            <a:noFill/>
          </a:ln>
        </p:spPr>
        <p:txBody>
          <a:bodyPr lIns="92160" rIns="92160" tIns="46080" bIns="4608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Donner la parole aux participa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onclure (ou résumer) en termes généraux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61680" y="4572000"/>
            <a:ext cx="5473800" cy="485928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
          <p:cNvSpPr/>
          <p:nvPr/>
        </p:nvSpPr>
        <p:spPr>
          <a:xfrm>
            <a:off x="1181160" y="3613320"/>
            <a:ext cx="4435560" cy="270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PlaceHolder 2"/>
          <p:cNvSpPr>
            <a:spLocks noGrp="1"/>
          </p:cNvSpPr>
          <p:nvPr>
            <p:ph type="body"/>
          </p:nvPr>
        </p:nvSpPr>
        <p:spPr>
          <a:xfrm>
            <a:off x="661680" y="457164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7640" y="744480"/>
            <a:ext cx="4962600" cy="3722760"/>
          </a:xfrm>
          <a:prstGeom prst="rect">
            <a:avLst/>
          </a:prstGeom>
          <a:ln w="0">
            <a:noFill/>
          </a:ln>
        </p:spPr>
      </p:sp>
      <p:sp>
        <p:nvSpPr>
          <p:cNvPr id="55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7640" y="744480"/>
            <a:ext cx="4962600" cy="3722760"/>
          </a:xfrm>
          <a:prstGeom prst="rect">
            <a:avLst/>
          </a:prstGeom>
          <a:ln w="0">
            <a:noFill/>
          </a:ln>
        </p:spPr>
      </p:sp>
      <p:sp>
        <p:nvSpPr>
          <p:cNvPr id="55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7640" y="744480"/>
            <a:ext cx="4962600" cy="3722760"/>
          </a:xfrm>
          <a:prstGeom prst="rect">
            <a:avLst/>
          </a:prstGeom>
          <a:ln w="0">
            <a:noFill/>
          </a:ln>
        </p:spPr>
      </p:sp>
      <p:sp>
        <p:nvSpPr>
          <p:cNvPr id="56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17640" y="744480"/>
            <a:ext cx="4962600" cy="3722760"/>
          </a:xfrm>
          <a:prstGeom prst="rect">
            <a:avLst/>
          </a:prstGeom>
          <a:ln w="0">
            <a:noFill/>
          </a:ln>
        </p:spPr>
      </p:sp>
      <p:sp>
        <p:nvSpPr>
          <p:cNvPr id="56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17640" y="744480"/>
            <a:ext cx="4962600" cy="3722760"/>
          </a:xfrm>
          <a:prstGeom prst="rect">
            <a:avLst/>
          </a:prstGeom>
          <a:ln w="0">
            <a:noFill/>
          </a:ln>
        </p:spPr>
      </p:sp>
      <p:sp>
        <p:nvSpPr>
          <p:cNvPr id="57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17640" y="744480"/>
            <a:ext cx="4962600" cy="3722760"/>
          </a:xfrm>
          <a:prstGeom prst="rect">
            <a:avLst/>
          </a:prstGeom>
          <a:ln w="0">
            <a:noFill/>
          </a:ln>
        </p:spPr>
      </p:sp>
      <p:sp>
        <p:nvSpPr>
          <p:cNvPr id="58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7640" y="744480"/>
            <a:ext cx="4962600" cy="3722760"/>
          </a:xfrm>
          <a:prstGeom prst="rect">
            <a:avLst/>
          </a:prstGeom>
          <a:ln w="0">
            <a:noFill/>
          </a:ln>
        </p:spPr>
      </p:sp>
      <p:sp>
        <p:nvSpPr>
          <p:cNvPr id="58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Faire parler les gestionn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307800"/>
            <a:ext cx="4964040" cy="3722760"/>
          </a:xfrm>
          <a:prstGeom prst="rect">
            <a:avLst/>
          </a:prstGeom>
          <a:ln w="0">
            <a:noFill/>
          </a:ln>
        </p:spPr>
      </p:sp>
      <p:sp>
        <p:nvSpPr>
          <p:cNvPr id="601" name="PlaceHolder 2"/>
          <p:cNvSpPr>
            <a:spLocks noGrp="1"/>
          </p:cNvSpPr>
          <p:nvPr>
            <p:ph type="body"/>
          </p:nvPr>
        </p:nvSpPr>
        <p:spPr>
          <a:xfrm>
            <a:off x="625320" y="4239720"/>
            <a:ext cx="5708880" cy="49770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4480"/>
            <a:ext cx="4962600" cy="3722760"/>
          </a:xfrm>
          <a:prstGeom prst="rect">
            <a:avLst/>
          </a:prstGeom>
          <a:ln w="0">
            <a:noFill/>
          </a:ln>
        </p:spPr>
      </p:sp>
      <p:sp>
        <p:nvSpPr>
          <p:cNvPr id="61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17640" y="744480"/>
            <a:ext cx="4962600" cy="3722760"/>
          </a:xfrm>
          <a:prstGeom prst="rect">
            <a:avLst/>
          </a:prstGeom>
          <a:ln w="0">
            <a:noFill/>
          </a:ln>
        </p:spPr>
      </p:sp>
      <p:sp>
        <p:nvSpPr>
          <p:cNvPr id="62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4480"/>
            <a:ext cx="4962600" cy="3722760"/>
          </a:xfrm>
          <a:prstGeom prst="rect">
            <a:avLst/>
          </a:prstGeom>
          <a:ln w="0">
            <a:noFill/>
          </a:ln>
        </p:spPr>
      </p:sp>
      <p:sp>
        <p:nvSpPr>
          <p:cNvPr id="62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être utiles à vos collaborateurs pour l’exercice de leurs fonctions - actuelles ou futures - ou pour préparer de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ciliter l’expression de ces besoins par vos collaborateurs ou leur faire des propositions, notamment au cours des entretiens annuel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2600" cy="3722760"/>
          </a:xfrm>
          <a:prstGeom prst="rect">
            <a:avLst/>
          </a:prstGeom>
          <a:ln w="0">
            <a:noFill/>
          </a:ln>
        </p:spPr>
      </p:sp>
      <p:sp>
        <p:nvSpPr>
          <p:cNvPr id="52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2600" cy="3722760"/>
          </a:xfrm>
          <a:prstGeom prst="rect">
            <a:avLst/>
          </a:prstGeom>
          <a:ln w="0">
            <a:noFill/>
          </a:ln>
        </p:spPr>
      </p:sp>
      <p:sp>
        <p:nvSpPr>
          <p:cNvPr id="52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r>
              <a:rPr b="1" i="1" lang="fr-FR" sz="1000" spc="-1" strike="noStrike">
                <a:solidFill>
                  <a:srgbClr val="000000"/>
                </a:solidFill>
                <a:latin typeface="Arial"/>
              </a:rPr>
              <a:t>donner la parole aux participants qui sauront, le cas échéant en les mettant sur la piste, en ci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Ré-exploiter ensuite, si possible, quelques uns des exemples qui seront apparus au cours de cet échan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C06FD-C6DA-4E84-889E-41CF44BEB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065EDE93-913B-4E75-8FD2-CACB60599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312EF4C0-0076-43E1-8FEE-460798B87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1DE9F557-5871-4B40-A153-3D9A6D015D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BCA71-A746-483D-8640-830B27EB3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8"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5AC76EC-170E-43F0-8648-22C5E5FE5E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22AB0A1-DB0B-4D68-B238-F7F4D7052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90DDA2E0-F12C-4A05-9B39-CF63D3FD0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07A68380-84A9-4ECE-9113-9F8FA3DEC0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02EAA606-A7D1-42B8-83C3-67C6FD78D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621E902-ACC5-4F29-B35C-10F6EBD79E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03F0514-E36C-44CA-95ED-14890CDE7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8A6D4B7-7001-49B6-9311-0426D319F5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141735B-F002-44F2-91D6-13E59EA0D7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9"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08A856EC-8583-4B56-8652-7FA9565F95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89D97B7E-3A34-45D0-BC42-313EA501C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7"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BF335D1B-E17A-4575-8E5E-2F22CD621C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AF83A1D-6F25-4AA9-832C-3736E4B4A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3EF31FD0-784E-443C-B5DC-31781AA25F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1B6506E8-7FC9-41CD-90CC-38CB4F3C3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2F023F19-C88D-480F-AF70-6BD8B4D7BB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D11F522-4FD4-48F5-A927-1F686A7BD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613793F-01E2-4CCA-B3F3-E9C1EA97A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39FCEE5-1E1D-4F35-AA20-6EB90EFA5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F05E-B6DB-474D-9DE6-5D3398290ED0}"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5A12-B1D3-4774-A507-346EA8C006B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 name="ApostrophesNBGrand" descr=""/>
          <p:cNvPicPr/>
          <p:nvPr/>
        </p:nvPicPr>
        <p:blipFill>
          <a:blip r:embed="rId2"/>
          <a:stretch/>
        </p:blipFill>
        <p:spPr>
          <a:xfrm>
            <a:off x="76320" y="6324480"/>
            <a:ext cx="419040" cy="4572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1"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2"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3" name="clef" descr=""/>
          <p:cNvPicPr/>
          <p:nvPr/>
        </p:nvPicPr>
        <p:blipFill>
          <a:blip r:embed="rId1"/>
          <a:stretch/>
        </p:blipFill>
        <p:spPr>
          <a:xfrm>
            <a:off x="5181480" y="3962520"/>
            <a:ext cx="3589560" cy="1496880"/>
          </a:xfrm>
          <a:prstGeom prst="rect">
            <a:avLst/>
          </a:prstGeom>
          <a:ln w="0">
            <a:noFill/>
          </a:ln>
        </p:spPr>
      </p:pic>
      <p:sp>
        <p:nvSpPr>
          <p:cNvPr id="9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ApostrophesNBGrand" descr=""/>
          <p:cNvPicPr/>
          <p:nvPr/>
        </p:nvPicPr>
        <p:blipFill>
          <a:blip r:embed="rId2"/>
          <a:stretch/>
        </p:blipFill>
        <p:spPr>
          <a:xfrm>
            <a:off x="4414680" y="3257640"/>
            <a:ext cx="314640" cy="342720"/>
          </a:xfrm>
          <a:prstGeom prst="rect">
            <a:avLst/>
          </a:prstGeom>
          <a:ln w="0">
            <a:noFill/>
          </a:ln>
        </p:spPr>
      </p:pic>
      <p:sp>
        <p:nvSpPr>
          <p:cNvPr id="4" name="PlaceHolder 3"/>
          <p:cNvSpPr>
            <a:spLocks noGrp="1"/>
          </p:cNvSpPr>
          <p:nvPr>
            <p:ph type="sldNum" idx="2"/>
          </p:nvPr>
        </p:nvSpPr>
        <p:spPr/>
        <p:txBody>
          <a:bodyPr/>
          <a:p>
            <a:fld id="{5DE056D5-B20D-45DB-88E3-372CE96BD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D724CCBC-FC37-4A52-AF20-654C091BD2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0F6E621-9CD1-469A-B666-8886CBB24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B067F137-E26D-4439-A2F2-35F34A6FC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35BA337-979A-4BD4-84BB-9308404BFA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A7C55DCC-D7A0-4DF8-81FA-BFF19827C8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2CE0C642-F87E-4703-ACF0-71584FA12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F514E14A-89A2-4A3A-B739-0FC914C627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BB1F619E-4D16-4CF1-92F7-03BA8005DFDD}" type="slidenum">
              <a:t>17</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13B78676-61DC-469D-954C-331F9D0EB0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65E7958-AC99-463B-8463-979BA9B9D3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5047BA70-B929-45E3-9521-18D6195D4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09112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0A1247C-E8C7-420A-A2E5-FECE32E519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B61D8EB3-D1CF-4C7D-AEA2-0D805B1120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03FB38C-3669-43E5-B1E4-5FD583162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AF0F9B4-B297-4AF6-BCD3-FAE922CAE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F551175-3FC0-421F-9C90-BCD178BD3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2EAC0158-EE94-48D9-BBF1-90E4EB0A1C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5F6B2841-C264-4B0E-A124-6F196FCBB0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350039-F06C-4B6D-8487-A12D87968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94347CBE-730C-4221-A5BD-AE7EFC8C9A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645A401-5F2B-41FC-9B52-E5A86F462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78525561-AEEA-4D12-8E0F-AE29B8BD7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D143CE7-B87D-4A0D-9C51-CE6B8E6516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4D177BA-8357-49B2-8A2C-242A8B40F6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62FDB46-9B30-4E67-86AA-64E1769E0D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CCE30C52-1494-42B4-95E0-FC9F7E99F2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8528BEE-627E-455C-9369-7904D5EBE5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D39E359-3E97-42FB-89FE-379E2723D9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3D4B8C60-8D5A-4117-864C-9667146993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47EEEA9C-462B-429A-94DD-B803C6C14E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5A532714-49F3-479D-AF59-4373E54695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35EF0D68-3427-4CCD-8B89-11AF90CA0B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9DEDB8C-86E9-4D88-A06C-29B1D5F7C34D}" type="slidenum">
              <a:t>4</a:t>
            </a:fld>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664CF0B-1E30-4046-B24D-BB96257DCC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FAC9A32C-4E76-4A33-A040-E2D3E9858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BA38B38E-0779-4BD1-A83A-3E9F7CBA33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5F9FA654-1AA2-485B-A75F-19D353BA1D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5C588305-EF4F-4AB1-AC1F-C9535A3039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174E8222-71A6-4395-A8B8-7D66F81A4D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3318424E-6548-4C9F-8B6E-76B6165E43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5BEF403-D07E-4E00-BF33-0F013B5531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E21E0F3-3DE7-4979-A9C7-5FAACB4E9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6E612E1E-1438-475F-BE0A-7F7E066D93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56A235C5-E2D6-4976-9394-D13B33C3F7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a:t>
            </a:r>
            <a:endParaRPr b="0" lang="en-US" sz="24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ED5CFC0-25B5-4A70-A78F-E3C6C11EEF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E00C27D-7228-4B69-984C-0F7E4EE418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B8CD0317-4B9B-43E7-B24E-4C0982C14A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7EB3E5AC-4A12-42B2-BF93-EE3655A126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99F9ABFA-FC85-4323-8AA2-FE4769FC60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5"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B5540372-6739-4275-BBCB-8E95FCBF69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94AB089B-8877-48A1-94BF-5BA62C8C1E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4B4C539A-4734-49A2-B727-AE3AF423D5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83313D34-D98A-4F1E-9BB8-9489BEA100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DD57219C-CD6F-4148-AD2C-411185B29D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2C31849A-B5A8-471D-88B9-80BCD5C13A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ED10B135-C17C-4310-82B4-86C160E931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2474D105-4E36-4602-888A-91A7F8E859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FFA42BB6-5B4A-4DFC-BC99-347AD3EDB7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42E14329-F8F4-4A86-A6B1-1BE08B3048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AC64DA29-1414-428A-8AE8-121CF55EC8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4CBFC2C-C48C-4B48-8C11-383B8E91AFD9}" type="slidenum">
              <a:t>65</a:t>
            </a:fld>
          </a:p>
        </p:txBody>
      </p:sp>
    </p:spTree>
  </p:cSld>
  <p:transition>
    <p:checke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D50362A-AC93-4F88-82E9-A9AC2EDB73B0}" type="slidenum">
              <a:t>66</a:t>
            </a:fld>
          </a:p>
        </p:txBody>
      </p:sp>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F1753C1-8131-41C6-BC59-E6A2A8D29F3D}" type="slidenum">
              <a:t>67</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5A080BF4-0043-4B3B-9BD9-627082314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B4C4220-829D-4717-903D-AC1B3DD907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DA38BA0E-12F1-4BE7-844E-9143310DD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9Z</dcterms:modified>
  <cp:revision>498</cp:revision>
  <dc:subject/>
  <dc:title>Présentation PowerPoint</dc:title>
</cp:coreProperties>
</file>